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BC6-E50A-45AF-A5DC-C562C152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35C-FFDF-4283-9CCC-C90CE4F0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57B-BB6D-4A0F-A776-A6A5AF13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85A-6099-417B-81E1-7CABFB74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A14E-7D53-40C4-8C0E-A03D9B9C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8E1E-C32A-42C2-807E-1B7C4290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4ECF-6811-476A-B1CF-32F7CFCC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18AB-DED7-44BF-9776-1A1DBD77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3397-C511-4A7C-B2E7-34FA4A16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1C45-71AE-435B-B980-F37E12C1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9110-6512-4BAA-B33D-135F66D8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74A-792C-40E6-BC08-E1D515D5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4A1A-3C9E-4802-BD7A-2DF99E50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3290-3D6B-471D-B2E8-BBEEED4D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3361-8B97-459D-8931-95E44642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64A0-4816-4104-8DCE-3EE90A90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F4AD-3C36-438E-8279-14299390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D14-C75A-4967-AB32-887B2BC6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922-AE49-421F-BE3D-29F192C8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185-822E-44A1-8B56-3B032427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A0F-2402-49DF-A413-75A1FD70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AC0-15B1-4B56-B8E2-66D65599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040-1B8B-43F5-B167-88197838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A06-6EF1-4D4D-AD4A-8A1DA6C3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520D-DF53-4080-B703-76291CC117C2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96EF-2A16-4A19-8121-89354C5A7726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Przekształcenia wykresów funkcji trygonometrycznych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r: mgr Halina Abramczy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348-9768-49E0-9B6E-5EB5155B51A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09800" y="1066680"/>
          <a:ext cx="78292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066680"/>
                    <a:ext cx="782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79B-5356-4C7E-A0C0-F3DE822AEBC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009800" y="914400"/>
          <a:ext cx="78292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914400"/>
                    <a:ext cx="78292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FA4-44B1-41DA-8988-BFAB8261235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19320" y="1295280"/>
          <a:ext cx="769608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76960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6B7-4F7D-4A10-95FA-46B6CE921FA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 podstawie przedstawionych wykresów można zauważyć, że zmienia się zbiór wartości funkcji.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Zbiór wartości funkcji y=k sinx </a:t>
            </a:r>
            <a:br>
              <a:rPr sz="3600"/>
            </a:b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i y=k cosx wynosi </a:t>
            </a:r>
            <a:r>
              <a:rPr b="0" lang="pl-PL" sz="3600" spc="-1" strike="noStrike">
                <a:solidFill>
                  <a:srgbClr val="cc6600"/>
                </a:solidFill>
                <a:latin typeface="Symbol"/>
                <a:ea typeface="Symbol"/>
              </a:rPr>
              <a:t></a:t>
            </a: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-|k|,|k|</a:t>
            </a:r>
            <a:r>
              <a:rPr b="0" lang="pl-PL" sz="3600" spc="-1" strike="noStrike">
                <a:solidFill>
                  <a:srgbClr val="cc6600"/>
                </a:solidFill>
                <a:latin typeface="Symbol"/>
                <a:ea typeface="Symbol"/>
              </a:rPr>
              <a:t>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878-D3DB-4768-8233-7D0E4E7AE05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Przesunięcia wykresów funkcji </a:t>
            </a:r>
            <a:br>
              <a:rPr sz="4400"/>
            </a:b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o dany we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y=sinx+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y=cos(x-</a:t>
            </a:r>
            <a:r>
              <a:rPr b="0" lang="pl-PL" sz="3200" spc="-1" strike="noStrike">
                <a:solidFill>
                  <a:srgbClr val="333333"/>
                </a:solidFill>
                <a:latin typeface="Symbol"/>
                <a:ea typeface="Symbol"/>
              </a:rPr>
              <a:t>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y=sin(x+</a:t>
            </a:r>
            <a:r>
              <a:rPr b="0" lang="pl-PL" sz="3200" spc="-1" strike="noStrike">
                <a:solidFill>
                  <a:srgbClr val="333333"/>
                </a:solidFill>
                <a:latin typeface="Symbol"/>
                <a:ea typeface="Symbol"/>
              </a:rPr>
              <a:t>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/4)-2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40D-AACB-4B3C-8C17-5A82ED2E10A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19320" y="990720"/>
          <a:ext cx="76960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7696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E02-8532-41EE-ADE1-CAD08A084E0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kres funkcji </a:t>
            </a: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y=sinx+1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otrzymujemy w wyniku przesunięcia wykresu funkcji y=sinx o wektor </a:t>
            </a: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[0,1].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A35-F12B-49EB-8994-A09953BF103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3880" y="1143000"/>
          <a:ext cx="739152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7391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667-5A08-43F9-823D-88EC05341CC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7734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kres funkcji </a:t>
            </a: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y=cos(x-</a:t>
            </a:r>
            <a:r>
              <a:rPr b="0" lang="pl-PL" sz="36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)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otrzymujemy w wyniku przesunięcia wykresu funkcji y=cosx o wektor </a:t>
            </a: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[</a:t>
            </a:r>
            <a:r>
              <a:rPr b="0" lang="pl-PL" sz="36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,0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79D-2B3E-49EC-BFE0-378D07AF0EE0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523880" y="1219320"/>
          <a:ext cx="723924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9320"/>
                    <a:ext cx="7239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FBF-3394-4F03-9703-3CF0B301776E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6600"/>
                </a:solidFill>
                <a:latin typeface="Arial"/>
              </a:rPr>
              <a:t>Wykresy typu y=f(k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=sin2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=sin(x/2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=cos3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95D-A66A-4A33-B3DB-BA9AC0C29C4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7734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kres funkcji </a:t>
            </a: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y=sin(x+</a:t>
            </a:r>
            <a:r>
              <a:rPr b="0" lang="pl-PL" sz="36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/4)-2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otrzymujemy w wyniku przesunięcia wykresu funkcji y=sinx o wektor</a:t>
            </a:r>
            <a:br>
              <a:rPr sz="3600"/>
            </a:b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[-</a:t>
            </a:r>
            <a:r>
              <a:rPr b="0" lang="pl-PL" sz="36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/4,-2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34F-5870-48E5-9F1F-9F4963D3367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Wykresy typu y=|f(x)|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y=|cosx|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y=|sinx|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36E-FEAE-4602-A74C-FAAD1298B51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009800" y="990720"/>
          <a:ext cx="77533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990720"/>
                    <a:ext cx="77533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2D8-2A3E-41CE-BC2A-280413E0772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523880" y="1066680"/>
          <a:ext cx="716292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66680"/>
                    <a:ext cx="71629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A6A-131E-46C3-8160-A1A563992D69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Wykresy wymagające wykonania wielu przekształce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748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=2sin2x-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=2-cos4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=|3cosx+1|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79F-A92F-47BF-9961-DE1569F488D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009800" y="1066680"/>
          <a:ext cx="79056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066680"/>
                    <a:ext cx="7905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75A-3810-4C84-9EB9-FEBDAB84DCF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143000" y="1066680"/>
          <a:ext cx="77724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60D-3F10-4CB8-96AE-E2F8E00AB7B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295280" y="1143000"/>
          <a:ext cx="75438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75438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F88-0E68-4621-B424-50859247E7C5}" type="slidenum">
              <a:t>27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238400" y="1066680"/>
          <a:ext cx="76770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066680"/>
                    <a:ext cx="7677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A9E-AA0A-45EF-837A-17914FD2CC4A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3880" y="1143000"/>
          <a:ext cx="7391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7391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5E6-CBF6-4CA1-928C-57C00569A4A6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295280" y="1143000"/>
          <a:ext cx="76201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7620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61E-1B76-4377-B8BF-035FBD9B244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657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 podstawie przedstawionych wykresów można zauważyć, że zmienił się okres podstawowy danych funkcji trygonometrycznych.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cc6600"/>
                </a:solidFill>
                <a:latin typeface="Arial"/>
              </a:rPr>
              <a:t>Jeżeli T jest okresem podstawowym funkcji trygonometrycznej y=f(x), to okresem podstawowym funkcji y=f(kx) jest liczba T/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2CF-AB3B-43FB-9BA3-CFDF43573B5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6600"/>
                </a:solidFill>
                <a:latin typeface="Arial"/>
              </a:rPr>
              <a:t>Wykresy typu y= kf(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y=-cos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y=2cos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y=2sin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y=-3sin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y=0,5sin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AD1-FA1A-4449-BFFA-34275734A24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009800" y="1371600"/>
          <a:ext cx="79056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371600"/>
                    <a:ext cx="7905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C6A-91FE-46C0-9183-62A96F95FB2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219320" y="1371600"/>
          <a:ext cx="76960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6960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319-1083-4F85-890D-C3C3839E272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9:36:39Z</dcterms:created>
  <dc:creator>Klaudyna</dc:creator>
  <dc:description/>
  <dc:language>en-US</dc:language>
  <cp:lastModifiedBy>Klaudyna</cp:lastModifiedBy>
  <dcterms:modified xsi:type="dcterms:W3CDTF">2003-04-09T19:54:31Z</dcterms:modified>
  <cp:revision>15</cp:revision>
  <dc:subject/>
  <dc:title>Przekształcenia wykresów funkcji trygonometrycznych</dc:title>
</cp:coreProperties>
</file>